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EEBIT.WAV" ContentType="audio/x-wav"/>
  <Override PartName="/ppt/media/CLICKER.WAV" ContentType="audio/x-wav"/>
  <Override PartName="/ppt/media/image2.wmf" ContentType="image/x-wmf"/>
  <Override PartName="/ppt/media/CHEEPCH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23F-C36C-4C91-81D7-C3FD330A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697-44B4-4188-A3F2-53014BA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AB7-A413-4B6F-8E76-9B577F23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A62-74B9-4E82-BC2B-8FC6A59D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CC6-79EA-4ACD-892F-54FCEDCA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5C51-8174-4D9C-99B4-A05B725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B75-67FF-439C-9A27-BF79CF95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8976-0262-4FAC-8162-B6378A4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964A-7193-4969-B5A3-1D92F5B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C90-A149-4F58-9C64-1B06860C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42B7-3CAA-467A-9E7B-55032B7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09F-A6F7-4ECF-952B-B90B475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C04-F4FF-4227-AB13-D3FD841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252B-54D9-4B8B-8C3A-3DE7CC5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EED-2228-40C7-BDE4-5935BF0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545-0A3D-4462-979E-D09CF540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0EE-45B2-48B9-9D22-EE916E15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DA4-208B-4AAF-BA26-C27977EE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AA5-E54A-489A-B71C-F27FD4AF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5AB-B125-4E86-BF01-83128C6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475-FDA0-4F14-9189-FB61234D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30D-0D93-4A28-A933-2061D85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0C1-79B3-4EC0-A93E-E74F33D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004-0846-47E7-B22E-2678163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760E-730A-477E-9962-42390AE46461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59A-303E-47A9-A7B1-76AB2DF80C68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EBIT.WAV"/><Relationship Id="rId3" Type="http://schemas.openxmlformats.org/officeDocument/2006/relationships/audio" Target="../media/CLICK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765000"/>
            <a:ext cx="3136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99ccff">
                      <a:alpha val="50000"/>
                    </a:srgbClr>
                  </a:outerShdw>
                </a:effectLst>
                <a:latin typeface="Hesham Gornata"/>
              </a:rPr>
              <a:t>كيف يبدو القمر </a:t>
            </a:r>
            <a:endParaRPr b="1" lang="en-US" sz="72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99ccff">
                    <a:alpha val="5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66"/>
                </a:solidFill>
                <a:latin typeface="Times New Roman"/>
              </a:rPr>
              <a:t>الَْقمَرَ جِسْمٌ صَخْرِيٌّ يَدُوْرُ حَوْلَ الأَرْضِ.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61000"/>
            <a:ext cx="69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ـ من أين ياتى نور القمر؟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اَلْقَمَرُ لا يُصْدِرُ ضَوْءًا، لَكِنَّهُ يَبْدو مُنيرًا؛ لأَنَّ ضَوْءَ الشَّمْسِ يَسْقُطُ عَلَيْهِ. عِنْدَما يَدورُ الْقَمَرُ حَوْلَ الأَرْضِ يَتَغَيَّرُ شَكْلُ الجُزْءِ المُنِيْرِ مِنْهُ. لِهَذا، يَبْدُو الْقَمَرُ وَكَأَنَّ لَهُ أَشْكالاً مُخْتَلِفَةً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3256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ُسَمَّى أَشْكَالُ الْقَمَرِ الْمُخْتَلِفَةُ أَطْوارً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قال تعالى " والقمر قدرنه منازل حتى عاد كالعرجون القديم " يس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0800" y="1413000"/>
            <a:ext cx="50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00ff"/>
                </a:solidFill>
                <a:uFillTx/>
                <a:latin typeface="Times New Roman"/>
              </a:rPr>
              <a:t>أشكال القمر</a:t>
            </a: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6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50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نَحْنُ نَرَى الشَّمْسَ تَطْلُعُ فِي الصَّبَاحِ، وَتَخْتَفي فِي المَساءِ. يَحْدُثُ ذَلِكَ لأنَّ الأَرْضَ تَدُوْرُ حَوْلً نَفْسِهَا أمَامَ الشَّمْسِ. هَذِهِ الحَرَكَةُ تُكَوِّنُ اللَّيْلَ وَالنَّهار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يُمْكِنُني مَعْرِفَةُ أَنَّ الأَرْضَ تَتَحَرَّكُ بِالنَّظَرِ إِلى الظِّلال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696960" y="495360"/>
            <a:ext cx="1073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ما سَبَبُ حُدُوْثِ النَّهارِ وَاللَّيْلِ؟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98952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ns</cp:lastModifiedBy>
  <dcterms:modified xsi:type="dcterms:W3CDTF">2010-01-30T21:57:00Z</dcterms:modified>
  <cp:revision>38</cp:revision>
  <dc:subject/>
  <dc:title>PowerPoint Presentation</dc:title>
</cp:coreProperties>
</file>